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CB6-15C1-4862-92D2-F3DAD279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5400" y="568656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AAD-945F-4207-8529-FA02DAE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7964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F64-DB78-443A-A804-8AAD8EA2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6308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4076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540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6308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4076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55E-80E6-44D1-97EB-D9A27042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E569-D431-4A8F-BC7E-25FC2D61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9F4-82B3-4B4D-BA13-6BC5482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E3D3-6041-4845-A1F9-2D5BCEC5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0926-873C-4EF4-A214-09AB34F2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8005-8CFA-46B7-A4A8-E9D44DE5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4440" y="1320840"/>
            <a:ext cx="58291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453-1030-436A-908B-03AA369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A5AE-47E0-4C59-B0C7-E48E456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E8B-D806-49B9-B3DF-7D92FC2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7964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2FCD-0153-4287-AE44-2B23DD6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BEAA-5D28-4C69-A855-9333543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85400" y="568656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CAC5-BA84-464E-A769-461BDEEB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7964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5D0-A933-4C51-ACD5-BD9EA25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6308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0760" y="457164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8540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6308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640760" y="5686560"/>
            <a:ext cx="1692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5BE-89C1-4D22-B637-7AF9E820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098-0E9D-4AC7-8EE2-AF39B3B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9E3-B4FA-47E5-A84B-56EFB683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2C2-B495-418A-9836-1B911E7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440" y="1320840"/>
            <a:ext cx="58291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993-EB44-47D3-83D4-5268DD6C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1D0-7B91-496A-BE17-DDF411E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79640" y="568656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941-471E-4C05-9390-C02C3CC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40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79640" y="4571640"/>
            <a:ext cx="256572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5400" y="5686560"/>
            <a:ext cx="52578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28D-D31A-4485-915B-9F39546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06440"/>
            <a:ext cx="60008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336400"/>
            <a:ext cx="60008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2089080"/>
            <a:ext cx="596916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2296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8326440"/>
            <a:ext cx="1486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485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C032-81B7-49F5-B702-005F74CCE98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0B3-72A1-4CDE-B29B-EFADAA43BD0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3192480"/>
            <a:ext cx="582912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057040" y="66290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Century Schoolbook"/>
              </a:rPr>
              <a:t>	</a:t>
            </a:r>
            <a:r>
              <a:rPr b="0" lang="it-IT" sz="2400" spc="-1" strike="noStrike">
                <a:solidFill>
                  <a:srgbClr val="808080"/>
                </a:solidFill>
                <a:latin typeface="Century Schoolboo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Century Schoolbook"/>
              </a:rPr>
              <a:t>	</a:t>
            </a:r>
            <a:r>
              <a:rPr b="0" lang="it-IT" sz="2400" spc="-1" strike="noStrike">
                <a:solidFill>
                  <a:srgbClr val="808080"/>
                </a:solidFill>
                <a:latin typeface="Century Schoolbook"/>
              </a:rPr>
              <a:t>	</a:t>
            </a:r>
            <a:r>
              <a:rPr b="0" lang="it-IT" sz="2400" spc="-1" strike="noStrike">
                <a:solidFill>
                  <a:srgbClr val="808080"/>
                </a:solidFill>
                <a:latin typeface="Century Schoolbook"/>
              </a:rPr>
              <a:t>  </a:t>
            </a:r>
            <a:r>
              <a:rPr b="1" lang="it-IT" sz="3300" spc="-1" strike="noStrike" u="sng">
                <a:solidFill>
                  <a:srgbClr val="808080"/>
                </a:solidFill>
                <a:uFillTx/>
                <a:latin typeface="Eras Light ITC"/>
              </a:rPr>
              <a:t>ANNO 2010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20280" y="826920"/>
            <a:ext cx="5697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Eras Light ITC"/>
              </a:rPr>
              <a:t>Piano di Zona</a:t>
            </a:r>
            <a:br>
              <a:rPr sz="4000"/>
            </a:br>
            <a:r>
              <a:rPr b="1" lang="it-IT" sz="4000" spc="-1" strike="noStrike">
                <a:solidFill>
                  <a:srgbClr val="000066"/>
                </a:solidFill>
                <a:latin typeface="Eras Light ITC"/>
              </a:rPr>
              <a:t>Distretto n° 12 </a:t>
            </a:r>
            <a:br>
              <a:rPr sz="4000"/>
            </a:br>
            <a:r>
              <a:rPr b="1" lang="it-IT" sz="4000" spc="-1" strike="noStrike">
                <a:solidFill>
                  <a:srgbClr val="000066"/>
                </a:solidFill>
                <a:latin typeface="Eras Light ITC"/>
              </a:rPr>
              <a:t>Valle Sabb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3835440"/>
            <a:ext cx="61045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80"/>
                </a:solidFill>
                <a:latin typeface="Eras Light ITC"/>
              </a:rPr>
              <a:t>BUONO SOCI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80"/>
                </a:solidFill>
                <a:latin typeface="Eras Light ITC"/>
              </a:rPr>
              <a:t>PER ANZIAN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80"/>
                </a:solidFill>
                <a:latin typeface="Eras Light ITC"/>
              </a:rPr>
              <a:t>NON AUTOSUFFICI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a.sabaini</cp:lastModifiedBy>
  <dcterms:modified xsi:type="dcterms:W3CDTF">2010-04-08T09:22:49Z</dcterms:modified>
  <cp:revision>18</cp:revision>
  <dc:subject/>
  <dc:title>PowerPoint Presentation</dc:title>
</cp:coreProperties>
</file>